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6F5C-E7FE-4F91-864D-F1E3EDBFF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D504-A7EA-4A92-880D-2701D431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2F3EB-130B-46A5-A437-3F899346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E45A1-CA7C-410B-8F34-12CCF390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838BE-FE14-482E-BB3C-3917813F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DC8DD-C731-441B-8017-716047A1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BE761-C0B3-4896-88B2-20E52BFC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382F0-AADB-414A-BAD5-9BE34CA2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A870E-F1C0-4CE4-B41B-2C04EC57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24ABA-B1C3-4F05-B102-2D3838D6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CD067-9936-46BB-8CEC-9B4D5576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C0B6F-BED3-40B0-B84E-DD1C9FDD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B7B2-5C5C-4BC1-B63E-ED787B3A8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FC2EC-8287-4663-86B7-8091C34C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C5DF3-4521-464C-AE47-2A9C3437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408C8-F1BF-431A-9177-C920B3DF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23F61-7AD5-442D-B1DB-652B7BED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30507-1BC9-4CC5-81D0-A8482F97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D17E9-66CD-461D-A5AA-F3222C5B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20733-D7F4-47B2-BBDC-8B328F90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8A0F8-DB9A-474F-BB83-78E695D3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FB92F-E8BE-4896-A14D-8E6B1D22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88C7C-C3C0-484E-9F78-D82C3A65B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CB39-553F-49B9-9C09-F6CDFCCAC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790CA-C759-40BE-9072-BF7F9A809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AFCC4-0E54-4544-93C0-1EAB316B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5F191-616E-45BB-812F-2E5AB028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40A70-3EC6-4DBA-91C1-B475E2FC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C8687-3CFC-4535-967E-95C31841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B433B-E049-4A77-BF53-156F2524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617E6-1959-4EEE-BEB1-FA109FD6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1A781-D37E-48A9-8364-A17C4F22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11617-9661-487D-B923-13F4DB2B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28367-9F9F-4CA7-B9FC-FDBA4A3D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B2BA-C21A-4388-BC44-0DF50DCB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125DF-86CB-4247-876F-EB0F41A3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C0B0E-88A6-42A5-A147-A37348DF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F9DF2-7E4C-4297-ACD9-35BA2B467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F50E-D4B5-4D82-BAA2-3FB1E0DF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2821-1CAE-4B3B-A721-ED519ED5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95EF-BD93-4079-8AC0-AD036851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CD5A-8F46-4A68-8AAF-B2DCC3DD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B60C-5302-425D-862D-CCA23EA0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C6C1-7CA4-4865-AD75-5EB59171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F8F0-CAD2-48CB-B8AF-19500DE2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126D-09D7-4278-BD85-A46784FA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1256-F972-4EC1-B454-4124E31D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C2BF-322B-401F-BA1F-CDD74CE1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E0F4-6276-4579-B8EF-3A063F75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22BF-2CD4-4EBE-B73C-4CC6FD496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D0D41-54EC-456A-A3CC-A954C2C32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E9339-A135-47EE-8662-0234B481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B5517-C6B0-450E-9799-72D6EA5A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DEC75-DCE6-4107-9A7C-6B57FE07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E34A5-1DD7-4C95-8FC0-E0085C8A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45C2-5C81-4117-A16B-03F1D95A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C02F3-B227-49F5-B41F-5D6640DD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D997B-CFD1-463D-BA16-99DB1F98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83C81-5169-4EEA-A6EF-F6115D2C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E5B00-F0C5-46C1-8108-697EAEB2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F3AD7-E0B3-4791-94FD-7FED0F05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62D95-517F-4CC7-8EAB-0780FF0B0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B23F7-1B0D-4865-BCCE-B154929DD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253E5-BDA1-406D-B612-2E370F482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1217B-487D-4BCB-BF7B-01CABF08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D197C-CD27-49E8-843D-7214535A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7838-A8EE-4A0B-B67D-7CEA4159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5972B-F4E0-4E8B-94AA-FE3DA5E8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73A8A-1B02-425F-8A50-9A2AE6B9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CE039-3590-4ABB-B0E3-BEFF4D72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C99BF-35E6-4DD2-A5C9-F17167C8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26966-846C-414F-9530-2C482377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6C206-1709-44F4-83CD-C855CAF3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0024E-1FF5-4B55-B251-3D41A9CC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6BE1A-E213-4D34-96C7-EFF65884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2178D-FCB1-42BF-B1BF-531846588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76443-B25C-4BED-8D62-D0832E30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92D7-1620-4693-B250-84701C94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0BA5C-D863-4729-BA16-607345B3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C77D4-90C1-476E-962B-54B2B4CC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164B4-EF30-45FE-BF97-B8BDE71F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1AF29-AAEE-4317-9270-E85E20A7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A568F-37EC-4506-8C11-A55E9F19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F3693-90D9-4779-BF36-40E66A0E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0CECF-EDEB-4DC4-88A7-41FE05EF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B4C93-0774-43F0-ABF3-FC0CDB7F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D38A7-2131-4CAA-BD4C-0C2B3DC7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599C6-B24D-4FA6-8F71-B49B39AE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7669-8E97-4288-BA94-1B87F28E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61D44-D793-46B4-8F44-7C4857998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3FA41-B68A-4C9A-9106-D957E768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05331-F340-4046-BCD0-70CA932A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441FE-E903-4BC6-A6AB-872EF3F2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4F9EB-BFFD-411E-BC4A-23BD62DD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3C8DB-90F4-4140-8645-B31A3DAF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B3A1B-FAE3-4DC2-8019-0D73596A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D3C74-7E1C-4507-9EF9-095F3367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1F356-B97C-4190-BE91-F685F8AB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71239-D1A1-4506-A1A8-BF6504C5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5FDA-E84E-4CB2-8A56-17F19349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E72B8-63C6-452C-98A3-DEE2B83D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D814C-EABC-4A3B-87CA-813DC21AE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F02E9-A8FB-4CA8-8E3C-91D6B0CA5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7A6CD-7FC6-4FC8-96DE-698E3058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6D70C-1FB6-4B53-A7EA-243865AB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982F0-FD40-41AF-A650-B53C2848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73657-192E-4328-8F5E-066B3AED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8E29B-B8D4-4EB9-B594-E6FFE4B2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BCCFE-CD06-478E-B78B-68EC0827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0291C-6CCB-48FA-A99D-7C5AE5F8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306B-3A4E-4C7B-8167-EA3A91E1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D2E51-1738-4555-B5DC-1D88D330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D1065-654C-4227-AC0D-A9B3DCBE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7AFAF-2DC4-4C66-94AA-DC9B90B5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85F42-1441-4246-8B50-C78168F67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CF746-C360-47AF-976A-7C44962B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4A543-4AC5-4E9E-9C9F-23111D7F6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FCA31-4693-4B3E-8CD4-235FF364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A404D-AF64-4B6E-A27C-B24F0A2E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908F4-5125-48CF-884F-982794DA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0D7A2-3FC4-4516-B8AD-392C6D89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4FDD-E505-4BF2-AA90-06931F43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6DA20-CE6E-4B10-BFA6-0841D70D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E5D2C-67A8-43F7-A1C9-BDA49FD0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3958B-6BB7-4E16-A385-989069B5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D715E-1D78-4970-A755-5CE990F7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DDA76-A85B-4F61-9BE9-D5C803BF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F9353-A6B8-4136-9D6A-011C51698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E9496-A8A5-4C26-B7B6-DD20AA2A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A8C7F-A728-4716-8DBE-C768FD7A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90CE27-F44E-4A38-9768-D086EE6B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DD911-6B6D-432E-9847-B108203E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42E5-9DEC-4644-A494-491CEB07C7D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05B2-F47C-4C45-AD21-FE7E3F7FF18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554C-8190-4BF2-B942-55D37BB892AE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56B5-73D4-416A-9110-2C9BFC880A0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68EB-CE0B-42A6-9B81-79F1E4F8105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1BDD-65B3-4FCF-9A01-BF627983FA7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E647-1654-4A82-831A-D285C0D92BB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502E-965A-49D2-9B6A-0658645B7A6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777A-DD6D-4659-B5B5-E035D13F7D8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3C5A-3F97-40A8-817C-715A64A3A5C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0B97-7E27-4976-BE25-3BEEDCC5C15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file:///d.wav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file:///t.wav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file:///n.wav" TargetMode="External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file:///l.wav" TargetMode="External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hyperlink" Target="file:///d.exe" TargetMode="External"/><Relationship Id="rId4" Type="http://schemas.openxmlformats.org/officeDocument/2006/relationships/image" Target="../media/image11.png"/><Relationship Id="rId5" Type="http://schemas.openxmlformats.org/officeDocument/2006/relationships/hyperlink" Target="file:///t.exe" TargetMode="External"/><Relationship Id="rId6" Type="http://schemas.openxmlformats.org/officeDocument/2006/relationships/image" Target="../media/image12.png"/><Relationship Id="rId7" Type="http://schemas.openxmlformats.org/officeDocument/2006/relationships/hyperlink" Target="file:///n.exe" TargetMode="External"/><Relationship Id="rId8" Type="http://schemas.openxmlformats.org/officeDocument/2006/relationships/image" Target="../media/image13.png"/><Relationship Id="rId9" Type="http://schemas.openxmlformats.org/officeDocument/2006/relationships/hyperlink" Target="file:///l.exe" TargetMode="External"/><Relationship Id="rId10" Type="http://schemas.openxmlformats.org/officeDocument/2006/relationships/image" Target="../media/image1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E:\教学资料\杨黎黎教后记\dtn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452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1D47-3CDC-400C-A7C9-97B88EE0BE07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53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54" name="矩形 12293"/>
          <p:cNvSpPr/>
          <p:nvPr/>
        </p:nvSpPr>
        <p:spPr>
          <a:xfrm>
            <a:off x="0" y="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55" name="矩形 12294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http://www.Lspjy.com </a:t>
            </a:r>
            <a:r>
              <a:rPr b="0" lang="zh-CN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http://cz.Lspjy.com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E:\work\新课标配套课件全集\小学全集\mxy\小学语文\图片\0dyd.gif"/>
          <p:cNvPicPr/>
          <p:nvPr/>
        </p:nvPicPr>
        <p:blipFill>
          <a:blip r:embed="rId2"/>
          <a:stretch/>
        </p:blipFill>
        <p:spPr>
          <a:xfrm>
            <a:off x="1065240" y="106524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3"/>
          <p:cNvSpPr/>
          <p:nvPr/>
        </p:nvSpPr>
        <p:spPr>
          <a:xfrm>
            <a:off x="3747960" y="1687680"/>
            <a:ext cx="66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 Black"/>
              </a:rPr>
              <a:t>d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4475160" y="1676520"/>
            <a:ext cx="63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 Black"/>
              </a:rPr>
              <a:t>e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11" name="Text Box 5"/>
          <p:cNvSpPr/>
          <p:nvPr/>
        </p:nvSpPr>
        <p:spPr>
          <a:xfrm>
            <a:off x="3016440" y="2971800"/>
            <a:ext cx="34063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de   dē   dé   d</a:t>
            </a:r>
            <a:r>
              <a:rPr b="1" lang="en-US" sz="2800" spc="-1" strike="noStrike">
                <a:solidFill>
                  <a:srgbClr val="800080"/>
                </a:solidFill>
                <a:latin typeface="Century Gothic"/>
              </a:rPr>
              <a:t>ě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dè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800080"/>
                </a:solidFill>
                <a:latin typeface="Century Gothic"/>
              </a:rPr>
              <a:t>a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ā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 d</a:t>
            </a:r>
            <a:r>
              <a:rPr b="1" lang="en-US" sz="2400" spc="-1" strike="noStrike">
                <a:solidFill>
                  <a:srgbClr val="800080"/>
                </a:solidFill>
                <a:latin typeface="Century Gothic"/>
              </a:rPr>
              <a:t>á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ǎ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  d</a:t>
            </a:r>
            <a:r>
              <a:rPr b="1" lang="en-US" sz="2400" spc="-1" strike="noStrike">
                <a:solidFill>
                  <a:srgbClr val="800080"/>
                </a:solidFill>
                <a:latin typeface="Century Gothic"/>
              </a:rPr>
              <a:t>à</a:t>
            </a:r>
            <a:endParaRPr b="1" lang="en-US" sz="24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di    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ī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 dí    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ǐ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  dì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du   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ū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dú   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ǔ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  dù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512" name="Picture 6" descr="D:\logo.gif"/>
          <p:cNvPicPr/>
          <p:nvPr/>
        </p:nvPicPr>
        <p:blipFill>
          <a:blip r:embed="rId3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513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D5CC-F2BD-488A-B5A2-EAFA2702B04F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14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E:\work\新课标配套课件全集\小学全集\mxy\小学语文\图片\0cyc.gif"/>
          <p:cNvPicPr/>
          <p:nvPr/>
        </p:nvPicPr>
        <p:blipFill>
          <a:blip r:embed="rId2"/>
          <a:stretch/>
        </p:blipFill>
        <p:spPr>
          <a:xfrm>
            <a:off x="1065240" y="1065240"/>
            <a:ext cx="2000160" cy="5713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3" descr="E:\work\新课标配套课件全集\小学全集\mxy\小学语文\图片\yw1p13_top.png"/>
          <p:cNvPicPr/>
          <p:nvPr/>
        </p:nvPicPr>
        <p:blipFill>
          <a:blip r:embed="rId3"/>
          <a:stretch/>
        </p:blipFill>
        <p:spPr>
          <a:xfrm>
            <a:off x="1714680" y="1600200"/>
            <a:ext cx="5715000" cy="3486240"/>
          </a:xfrm>
          <a:prstGeom prst="rect">
            <a:avLst/>
          </a:prstGeom>
          <a:ln w="0">
            <a:noFill/>
          </a:ln>
        </p:spPr>
      </p:pic>
      <p:grpSp>
        <p:nvGrpSpPr>
          <p:cNvPr id="517" name="Group 4"/>
          <p:cNvGrpSpPr/>
          <p:nvPr/>
        </p:nvGrpSpPr>
        <p:grpSpPr>
          <a:xfrm>
            <a:off x="3886200" y="5257800"/>
            <a:ext cx="3657600" cy="1143000"/>
            <a:chOff x="3886200" y="5257800"/>
            <a:chExt cx="3657600" cy="1143000"/>
          </a:xfrm>
        </p:grpSpPr>
        <p:sp>
          <p:nvSpPr>
            <p:cNvPr id="518" name="AutoShape 5"/>
            <p:cNvSpPr/>
            <p:nvPr/>
          </p:nvSpPr>
          <p:spPr>
            <a:xfrm>
              <a:off x="3886200" y="5257800"/>
              <a:ext cx="3657600" cy="1143000"/>
            </a:xfrm>
            <a:prstGeom prst="cloudCallout">
              <a:avLst>
                <a:gd name="adj1" fmla="val -16708"/>
                <a:gd name="adj2" fmla="val -114722"/>
              </a:avLst>
            </a:prstGeom>
            <a:solidFill>
              <a:srgbClr val="ffcccc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  <p:sp>
          <p:nvSpPr>
            <p:cNvPr id="519" name="Rectangle 6"/>
            <p:cNvSpPr/>
            <p:nvPr/>
          </p:nvSpPr>
          <p:spPr>
            <a:xfrm>
              <a:off x="5244840" y="5486400"/>
              <a:ext cx="123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80"/>
                  </a:solidFill>
                  <a:latin typeface="楷体_GB2312"/>
                </a:rPr>
                <a:t>读一读，编一编。</a:t>
              </a:r>
              <a:endParaRPr b="1" lang="en-US" sz="28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  <p:pic>
        <p:nvPicPr>
          <p:cNvPr id="520" name="Picture 7" descr="D:\logo.gif"/>
          <p:cNvPicPr/>
          <p:nvPr/>
        </p:nvPicPr>
        <p:blipFill>
          <a:blip r:embed="rId4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521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D69C-5BFB-4380-9F0B-74B9F314967F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22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34" descr="E:\work\新课标配套课件全集\小学全集\mxy\小学语文\图片\0cyc.gif"/>
          <p:cNvPicPr/>
          <p:nvPr/>
        </p:nvPicPr>
        <p:blipFill>
          <a:blip r:embed="rId2"/>
          <a:stretch/>
        </p:blipFill>
        <p:spPr>
          <a:xfrm>
            <a:off x="1065240" y="1065240"/>
            <a:ext cx="2000160" cy="5713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39" descr="E:\work\新课标配套课件全集\小学全集\mxy\小学语文\图片\yw1p13_top00.png"/>
          <p:cNvPicPr/>
          <p:nvPr/>
        </p:nvPicPr>
        <p:blipFill>
          <a:blip r:embed="rId3"/>
          <a:stretch/>
        </p:blipFill>
        <p:spPr>
          <a:xfrm>
            <a:off x="1143000" y="1684440"/>
            <a:ext cx="4610160" cy="28112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41" descr="E:\work\新课标配套课件全集\小学全集\mxy\小学语文\图片\yw1p13_txt.png"/>
          <p:cNvPicPr/>
          <p:nvPr/>
        </p:nvPicPr>
        <p:blipFill>
          <a:blip r:embed="rId4"/>
          <a:stretch/>
        </p:blipFill>
        <p:spPr>
          <a:xfrm>
            <a:off x="5105520" y="2792520"/>
            <a:ext cx="3268440" cy="33033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2" descr="D:\logo.gif"/>
          <p:cNvPicPr/>
          <p:nvPr/>
        </p:nvPicPr>
        <p:blipFill>
          <a:blip r:embed="rId5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52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AFFE-E6FC-420A-BCDB-C080C3BD3FBF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28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29" name="矩形 23560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http://www.Lspjy.com </a:t>
            </a:r>
            <a:r>
              <a:rPr b="0" lang="zh-CN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http://cz.Lspjy.com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CADB-7C7C-412F-A52C-98CD5AA3F6DF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3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3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4"/>
          <p:cNvSpPr/>
          <p:nvPr/>
        </p:nvSpPr>
        <p:spPr>
          <a:xfrm>
            <a:off x="3200400" y="2438280"/>
            <a:ext cx="3809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悟空本领特别大，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天兵天将全不怕，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打败哪吒三太子，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乐得悟空笑哈哈。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4079880" y="1782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读儿歌：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459" name="Picture 6" descr="D:\logo.gif"/>
          <p:cNvPicPr/>
          <p:nvPr/>
        </p:nvPicPr>
        <p:blipFill>
          <a:blip r:embed="rId3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60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C57D-D589-454D-81F7-2C688AE390F6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61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" descr="E:\work\新课标配套课件全集\小学全集\mxy\小学语文\图片\yw1p12_z.png"/>
          <p:cNvPicPr/>
          <p:nvPr/>
        </p:nvPicPr>
        <p:blipFill>
          <a:blip r:embed="rId3"/>
          <a:stretch/>
        </p:blipFill>
        <p:spPr>
          <a:xfrm>
            <a:off x="1654200" y="1752480"/>
            <a:ext cx="5834160" cy="44244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5" descr="D:\logo.gif"/>
          <p:cNvPicPr/>
          <p:nvPr/>
        </p:nvPicPr>
        <p:blipFill>
          <a:blip r:embed="rId4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65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A495-A611-4522-86AD-775D33ED6972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66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4">
            <a:hlinkClick r:id="rId3"/>
          </p:cNvPr>
          <p:cNvSpPr/>
          <p:nvPr/>
        </p:nvSpPr>
        <p:spPr>
          <a:xfrm>
            <a:off x="1905120" y="1752480"/>
            <a:ext cx="93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 Black"/>
              </a:rPr>
              <a:t>d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469" name="Picture 9" descr="E:\work\新课标配套课件全集\小学全集\mxy\小学语文\图片\yw1p12_d.png"/>
          <p:cNvPicPr/>
          <p:nvPr/>
        </p:nvPicPr>
        <p:blipFill>
          <a:blip r:embed="rId4"/>
          <a:stretch/>
        </p:blipFill>
        <p:spPr>
          <a:xfrm>
            <a:off x="2743200" y="1676520"/>
            <a:ext cx="4572000" cy="46288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0" descr="D:\logo.gif"/>
          <p:cNvPicPr/>
          <p:nvPr/>
        </p:nvPicPr>
        <p:blipFill>
          <a:blip r:embed="rId5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7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3685-0436-432D-B3CB-A3F880E37366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72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3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4">
            <a:hlinkClick r:id="rId3"/>
          </p:cNvPr>
          <p:cNvSpPr/>
          <p:nvPr/>
        </p:nvSpPr>
        <p:spPr>
          <a:xfrm>
            <a:off x="1905120" y="1752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 Black"/>
              </a:rPr>
              <a:t>t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475" name="Picture 6" descr="E:\work\新课标配套课件全集\小学全集\mxy\小学语文\图片\yw1p12_t.png"/>
          <p:cNvPicPr/>
          <p:nvPr/>
        </p:nvPicPr>
        <p:blipFill>
          <a:blip r:embed="rId4"/>
          <a:stretch/>
        </p:blipFill>
        <p:spPr>
          <a:xfrm>
            <a:off x="2705040" y="1535040"/>
            <a:ext cx="4000680" cy="456084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7" descr="D:\logo.gif"/>
          <p:cNvPicPr/>
          <p:nvPr/>
        </p:nvPicPr>
        <p:blipFill>
          <a:blip r:embed="rId5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7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F91C-D546-4E1D-8B69-AD638F806C6C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78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1026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1027">
            <a:hlinkClick r:id="rId3"/>
          </p:cNvPr>
          <p:cNvSpPr/>
          <p:nvPr/>
        </p:nvSpPr>
        <p:spPr>
          <a:xfrm>
            <a:off x="1905120" y="1752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 Black"/>
              </a:rPr>
              <a:t>n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481" name="Picture 1028" descr="E:\work\新课标配套课件全集\小学全集\mxy\小学语文\图片\yw1p12_n.png"/>
          <p:cNvPicPr/>
          <p:nvPr/>
        </p:nvPicPr>
        <p:blipFill>
          <a:blip r:embed="rId4"/>
          <a:stretch/>
        </p:blipFill>
        <p:spPr>
          <a:xfrm>
            <a:off x="2438280" y="1646280"/>
            <a:ext cx="4572000" cy="38401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029" descr="D:\logo.gif"/>
          <p:cNvPicPr/>
          <p:nvPr/>
        </p:nvPicPr>
        <p:blipFill>
          <a:blip r:embed="rId5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8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8495-1EE5-48A8-AAE1-1A26A8134014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84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2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3">
            <a:hlinkClick r:id="rId3"/>
          </p:cNvPr>
          <p:cNvSpPr/>
          <p:nvPr/>
        </p:nvSpPr>
        <p:spPr>
          <a:xfrm>
            <a:off x="1905120" y="1752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 Black"/>
              </a:rPr>
              <a:t>l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487" name="Picture 7" descr="E:\work\新课标配套课件全集\小学全集\mxy\小学语文\图片\yw1p12_l.png"/>
          <p:cNvPicPr/>
          <p:nvPr/>
        </p:nvPicPr>
        <p:blipFill>
          <a:blip r:embed="rId4"/>
          <a:stretch/>
        </p:blipFill>
        <p:spPr>
          <a:xfrm>
            <a:off x="2362320" y="1635120"/>
            <a:ext cx="4572000" cy="38512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8" descr="D:\logo.gif"/>
          <p:cNvPicPr/>
          <p:nvPr/>
        </p:nvPicPr>
        <p:blipFill>
          <a:blip r:embed="rId5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8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D7F7-6264-4EFF-A4FB-D7D25B20D355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90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91" name="矩形 18440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http://www.Lspjy.com </a:t>
            </a:r>
            <a:r>
              <a:rPr b="0" lang="zh-CN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http://cz.Lspjy.com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8" descr="E:\work\新课标配套课件全集\小学全集\mxy\小学语文\图片\yw1p12_z.png"/>
          <p:cNvPicPr/>
          <p:nvPr/>
        </p:nvPicPr>
        <p:blipFill>
          <a:blip r:embed="rId3"/>
          <a:stretch/>
        </p:blipFill>
        <p:spPr>
          <a:xfrm>
            <a:off x="1441440" y="1752480"/>
            <a:ext cx="4121280" cy="3125880"/>
          </a:xfrm>
          <a:prstGeom prst="rect">
            <a:avLst/>
          </a:prstGeom>
          <a:ln w="0">
            <a:noFill/>
          </a:ln>
        </p:spPr>
      </p:pic>
      <p:grpSp>
        <p:nvGrpSpPr>
          <p:cNvPr id="494" name="Group 9"/>
          <p:cNvGrpSpPr/>
          <p:nvPr/>
        </p:nvGrpSpPr>
        <p:grpSpPr>
          <a:xfrm>
            <a:off x="4114800" y="1447920"/>
            <a:ext cx="4724280" cy="1981080"/>
            <a:chOff x="4114800" y="1447920"/>
            <a:chExt cx="4724280" cy="1981080"/>
          </a:xfrm>
        </p:grpSpPr>
        <p:sp>
          <p:nvSpPr>
            <p:cNvPr id="495" name="AutoShape 10"/>
            <p:cNvSpPr/>
            <p:nvPr/>
          </p:nvSpPr>
          <p:spPr>
            <a:xfrm>
              <a:off x="4114800" y="1447920"/>
              <a:ext cx="4724280" cy="1981080"/>
            </a:xfrm>
            <a:prstGeom prst="cloudCallout">
              <a:avLst>
                <a:gd name="adj1" fmla="val -31953"/>
                <a:gd name="adj2" fmla="val 78365"/>
              </a:avLst>
            </a:prstGeom>
            <a:solidFill>
              <a:srgbClr val="ffcccc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  <p:sp>
          <p:nvSpPr>
            <p:cNvPr id="496" name="Text Box 11"/>
            <p:cNvSpPr/>
            <p:nvPr/>
          </p:nvSpPr>
          <p:spPr>
            <a:xfrm>
              <a:off x="4647960" y="1676520"/>
              <a:ext cx="3581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    </a:t>
              </a: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再看看图片</a:t>
              </a: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,</a:t>
              </a: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你发现了什么</a:t>
              </a: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?</a:t>
              </a: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能想个办法记住字母吗</a:t>
              </a: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?</a:t>
              </a:r>
              <a:r>
                <a:rPr b="1" lang="zh-CN" sz="2800" spc="-1" strike="noStrike">
                  <a:solidFill>
                    <a:srgbClr val="800080"/>
                  </a:solidFill>
                  <a:latin typeface="楷体_GB2312"/>
                </a:rPr>
                <a:t> </a:t>
              </a:r>
              <a:endParaRPr b="1" lang="en-US" sz="28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  <p:pic>
        <p:nvPicPr>
          <p:cNvPr id="497" name="Picture 12" descr="D:\logo.gif"/>
          <p:cNvPicPr/>
          <p:nvPr/>
        </p:nvPicPr>
        <p:blipFill>
          <a:blip r:embed="rId4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98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939A-9E63-4130-9599-98126587B8E0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99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E:\work\新课标配套课件全集\小学全集\mxy\小学语文\图片\0xyx.gif"/>
          <p:cNvPicPr/>
          <p:nvPr/>
        </p:nvPicPr>
        <p:blipFill>
          <a:blip r:embed="rId2"/>
          <a:stretch/>
        </p:blipFill>
        <p:spPr>
          <a:xfrm>
            <a:off x="1065240" y="1065240"/>
            <a:ext cx="1977840" cy="5493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E:\work\新课标配套课件全集\小学全集\mxy\小学语文\图片\xie_d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28800" y="2176560"/>
            <a:ext cx="1486080" cy="25034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7" descr="E:\work\新课标配套课件全集\小学全集\mxy\小学语文\图片\xie_t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27280" y="2225520"/>
            <a:ext cx="1121040" cy="24228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8" descr="E:\work\新课标配套课件全集\小学全集\mxy\小学语文\图片\xie_n.pn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903920" y="2168640"/>
            <a:ext cx="1268280" cy="24796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9" descr="E:\work\新课标配套课件全集\小学全集\mxy\小学语文\图片\xie_l.pn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346800" y="2133720"/>
            <a:ext cx="1349280" cy="229716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0" descr="D:\logo.gif"/>
          <p:cNvPicPr/>
          <p:nvPr/>
        </p:nvPicPr>
        <p:blipFill>
          <a:blip r:embed="rId11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506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579B-2234-4F06-9565-1672EF79897B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07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7T10:39:03Z</dcterms:created>
  <dc:creator/>
  <dc:description/>
  <cp:keywords/>
  <dc:language>en-US</dc:language>
  <cp:lastModifiedBy>User</cp:lastModifiedBy>
  <dcterms:modified xsi:type="dcterms:W3CDTF">2016-10-05T12:11:48Z</dcterms:modified>
  <cp:revision>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</Properties>
</file>